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851F7-9B36-4B68-AD70-CD0955C0E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19C-C7F6-459B-8D8A-F19D8209A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4F7E9-A57D-4F3F-A0F8-BE7BBE2D5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9E67D-5DCB-4D54-8558-4358E4954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BBEA-0AE6-46ED-8575-516107B1EF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9FCD-5709-4287-A93A-97A59A2D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F328-437C-4368-8B44-E8B9E56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C4DC-C3E3-4AA7-A7B8-6CA393D2AF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5DED-EA8B-46A5-8656-B468D1DF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05E5-F282-437F-A030-5548CAE7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D2F1-1AFA-41A9-A495-9CA32933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E4EA-8788-4A0E-BFA5-590219A2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DD00-935F-4881-89C7-39F4541C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5DA9-A3FE-4588-B3C4-18C03CCD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246A-C659-4D4D-81ED-0FF30C88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E802-D9F0-4DB2-B0BB-9D3FCCAC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F235D-847D-4C92-B017-898A68740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cdonalds.ca/en/aboutus/history.aspx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sponsibility of employers –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EAT response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000" y="16286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logan v Porturlin Shellfish Lt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rimin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urie Panuta v Watters Garden Wor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rimination and victim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NascLogo (1).jpg"/>
          <p:cNvPicPr/>
          <p:nvPr/>
        </p:nvPicPr>
        <p:blipFill>
          <a:blip r:embed="rId1"/>
          <a:stretch/>
        </p:blipFill>
        <p:spPr>
          <a:xfrm>
            <a:off x="7184880" y="5357880"/>
            <a:ext cx="1959120" cy="150012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asc Employer Training - [Module 1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6840" y="764640"/>
            <a:ext cx="82263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800" spc="-1" strike="noStrike">
                <a:solidFill>
                  <a:srgbClr val="000000"/>
                </a:solidFill>
                <a:latin typeface="Calibri"/>
              </a:rPr>
              <a:t>You can contribute to the removal of barriers to full social and economic participation for all members of society, thereby helping to create a better Ireland.</a:t>
            </a: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cruitment  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646360" y="2079720"/>
            <a:ext cx="3848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571680"/>
            <a:ext cx="8226360" cy="55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IE" sz="3600" spc="-1" strike="noStrike">
                <a:solidFill>
                  <a:srgbClr val="000000"/>
                </a:solidFill>
                <a:latin typeface="Calibri"/>
              </a:rPr>
              <a:t>We are an equal opportunities employ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000" y="1052280"/>
            <a:ext cx="8226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What are we doing to attract the bes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How are we reaching them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Does our advertising reflect our policy on diversit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50% non verb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romo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60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a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26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428616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nvestigate complaints;   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Don’t hold a complaint against the complainant; 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mplement your equality policy &amp; provide support.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4857840" y="1357200"/>
            <a:ext cx="40370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404640"/>
            <a:ext cx="83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c Donald’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The core values we live by.”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dedicated to providing customers unparalleled levels of Quality, Service, Cleanliness and Value. It is what our founder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Ray Kro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augh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committed to our people beca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know that a diverse team of well-trained individuals, working together, is the key to our continued succes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pproach all aspects of our business with honesty and integ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always give back to the communities in which we do busin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give back to the system that provides our suc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elebrate our achievements, yet we always strive to achieve new heigh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3693960" cy="282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071720" y="2928960"/>
            <a:ext cx="60721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Diverse Cultures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One Work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the law requir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nd what you can do to harness the energy of a diverse workpl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ranceImage1"/>
          <p:cNvPicPr/>
          <p:nvPr/>
        </p:nvPicPr>
        <p:blipFill>
          <a:blip r:embed="rId1"/>
          <a:stretch/>
        </p:blipFill>
        <p:spPr>
          <a:xfrm>
            <a:off x="1587600" y="1320840"/>
            <a:ext cx="59688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-BRAD1sml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la riots 2"/>
          <p:cNvPicPr/>
          <p:nvPr/>
        </p:nvPicPr>
        <p:blipFill>
          <a:blip r:embed="rId1"/>
          <a:stretch/>
        </p:blipFill>
        <p:spPr>
          <a:xfrm>
            <a:off x="1835280" y="1484280"/>
            <a:ext cx="55814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odney king"/>
          <p:cNvPicPr/>
          <p:nvPr/>
        </p:nvPicPr>
        <p:blipFill>
          <a:blip r:embed="rId1"/>
          <a:stretch/>
        </p:blipFill>
        <p:spPr>
          <a:xfrm>
            <a:off x="900000" y="765000"/>
            <a:ext cx="73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7200" spc="-1" strike="noStrike">
                <a:solidFill>
                  <a:srgbClr val="000000"/>
                </a:solidFill>
                <a:latin typeface="Calibri"/>
              </a:rPr>
              <a:t>The Employment Equality Act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7200" spc="-1" strike="noStrike">
                <a:solidFill>
                  <a:srgbClr val="000000"/>
                </a:solidFill>
                <a:latin typeface="Calibri"/>
              </a:rPr>
              <a:t>1998 – 200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000" y="476280"/>
            <a:ext cx="83516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Ge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Marital stat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Family Stat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Sexual orien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Ra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Relig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Dis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Membership of the travelling commun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the burden of proof shifts to the employer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900000" y="1569960"/>
            <a:ext cx="72072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 </cp:lastModifiedBy>
  <dcterms:modified xsi:type="dcterms:W3CDTF">2010-02-25T11:03:50Z</dcterms:modified>
  <cp:revision>18</cp:revision>
  <dc:subject/>
  <dc:title>Slide 1</dc:title>
</cp:coreProperties>
</file>