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01BFF-D2E2-4075-B4D2-AEB98AC3F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E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9BFB-BC1B-402B-AA41-0F7CF875B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69259-22F8-48D9-92EA-776CF5E22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8A690-572A-4677-955E-FDBB74388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F701-F94C-432B-85A2-27A5E46DBB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A070-A261-41F9-B458-8CAFAE25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0274-6627-4D30-A415-E64FE2D0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BED0-575E-4767-A805-AEDF8ECBC0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3BD0-78CD-4223-A98A-BC4C34A4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158C-CA3B-483D-AA3E-C064E5E0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C936-48E0-4983-ACC1-C7897EF7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7A43-A196-462D-9188-8C020229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CE52-1221-40AA-8FAA-12A1D512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78FC-D3A4-42FA-9EE0-54CEF9E8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8250-3DB3-4D0D-9462-C972B58D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E3A1-1E09-4CD8-816A-96A658B7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37B77-7CE3-4669-B26C-3D493F7D7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cdonalds.ca/en/aboutus/history.aspx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sponsibility of employers –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EAT response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000" y="16286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logan v Porturlin Shellfish Lt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rimin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urie Panuta v Watters Garden Worl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rimination and victim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NascLogo (1).jpg"/>
          <p:cNvPicPr/>
          <p:nvPr/>
        </p:nvPicPr>
        <p:blipFill>
          <a:blip r:embed="rId1"/>
          <a:stretch/>
        </p:blipFill>
        <p:spPr>
          <a:xfrm>
            <a:off x="7184880" y="5357880"/>
            <a:ext cx="1959120" cy="1500120"/>
          </a:xfrm>
          <a:prstGeom prst="rect">
            <a:avLst/>
          </a:prstGeom>
          <a:ln w="0">
            <a:noFill/>
          </a:ln>
        </p:spPr>
      </p:pic>
      <p:sp>
        <p:nvSpPr>
          <p:cNvPr id="5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asc Employer Training - [Module 1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6840" y="764640"/>
            <a:ext cx="82263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800" spc="-1" strike="noStrike">
                <a:solidFill>
                  <a:srgbClr val="000000"/>
                </a:solidFill>
                <a:latin typeface="Calibri"/>
              </a:rPr>
              <a:t>You can contribute to the removal of barriers to full social and economic participation for all members of society, thereby helping to create a better Ireland.</a:t>
            </a: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ecruitment  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646360" y="2079720"/>
            <a:ext cx="38480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571680"/>
            <a:ext cx="8226360" cy="55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IE" sz="3600" spc="-1" strike="noStrike">
                <a:solidFill>
                  <a:srgbClr val="000000"/>
                </a:solidFill>
                <a:latin typeface="Calibri"/>
              </a:rPr>
              <a:t>We are an equal opportunities employ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000" y="1052280"/>
            <a:ext cx="82263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  <a:ea typeface="宋体"/>
              </a:rPr>
              <a:t>What are we doing to attract the best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  <a:ea typeface="宋体"/>
              </a:rPr>
              <a:t>How are we reaching them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  <a:ea typeface="宋体"/>
              </a:rPr>
              <a:t>Does our advertising reflect our policy on diversity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50% non verb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romo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600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a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26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428616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Investigate complaints;   </a:t>
            </a:r>
            <a:br>
              <a:rPr sz="36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Don’t hold a complaint against the complainant; </a:t>
            </a:r>
            <a:br>
              <a:rPr sz="36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Implement your equality policy &amp; provide support.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4857840" y="1357200"/>
            <a:ext cx="40370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68360" y="404640"/>
            <a:ext cx="83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c Donald’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The core values we live by.”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dedicated to providing customers unparalleled levels of Quality, Service, Cleanliness and Value. It is what our founder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Ray Kro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aught 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committed to our people beca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know that a diverse team of well-trained individuals, working together, is the key to our continued success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pproach all aspects of our business with honesty and integ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always give back to the communities in which we do busin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give back to the system that provides our succ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celebrate our achievements, yet we always strive to achieve new heigh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3693960" cy="2828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071720" y="2928960"/>
            <a:ext cx="60721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Diverse Cultures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One Work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the law requir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and what you can do to harness the energy of a diverse workpl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ranceImage1"/>
          <p:cNvPicPr/>
          <p:nvPr/>
        </p:nvPicPr>
        <p:blipFill>
          <a:blip r:embed="rId1"/>
          <a:stretch/>
        </p:blipFill>
        <p:spPr>
          <a:xfrm>
            <a:off x="1587600" y="1320840"/>
            <a:ext cx="59688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-BRAD1sml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la riots 2"/>
          <p:cNvPicPr/>
          <p:nvPr/>
        </p:nvPicPr>
        <p:blipFill>
          <a:blip r:embed="rId1"/>
          <a:stretch/>
        </p:blipFill>
        <p:spPr>
          <a:xfrm>
            <a:off x="1835280" y="1484280"/>
            <a:ext cx="55814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rodney king"/>
          <p:cNvPicPr/>
          <p:nvPr/>
        </p:nvPicPr>
        <p:blipFill>
          <a:blip r:embed="rId1"/>
          <a:stretch/>
        </p:blipFill>
        <p:spPr>
          <a:xfrm>
            <a:off x="900000" y="765000"/>
            <a:ext cx="73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7200" spc="-1" strike="noStrike">
                <a:solidFill>
                  <a:srgbClr val="000000"/>
                </a:solidFill>
                <a:latin typeface="Calibri"/>
              </a:rPr>
              <a:t>The Employment Equality Acts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7200" spc="-1" strike="noStrike">
                <a:solidFill>
                  <a:srgbClr val="000000"/>
                </a:solidFill>
                <a:latin typeface="Calibri"/>
              </a:rPr>
              <a:t>1998 – 200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8000" y="476280"/>
            <a:ext cx="835164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Gen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Marital statu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Family Statu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Sexual orien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Ra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Relig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Disab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Membership of the travelling commun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the burden of proof shifts to the employer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900000" y="1569960"/>
            <a:ext cx="72072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 </cp:lastModifiedBy>
  <dcterms:modified xsi:type="dcterms:W3CDTF">2010-02-25T11:03:50Z</dcterms:modified>
  <cp:revision>18</cp:revision>
  <dc:subject/>
  <dc:title>Slide 1</dc:title>
</cp:coreProperties>
</file>