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5925-C01B-4F8C-9530-0DC4191A2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554A-00B4-44E0-A0A0-47DF6D87C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4EB69-1F2F-45A5-9D66-DE2BF5005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4E63-B049-4446-90AB-8456B1C3B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7D1D-4980-4A24-9C80-687DA5217C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1C61-E453-4227-8D50-9469026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0D08-78D7-4B0A-A607-86D12A9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B114-31EA-4DA6-88CB-6F864BDFE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D4EA-8766-43A8-A0F7-DCB7074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FACC-662C-4462-B653-F0834062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33A5-EA6F-49B6-BCE7-B269335A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F89D-859F-480A-AECE-D9C1107A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5760-0304-4B80-8EA0-D68EDF4A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5B83-F6F7-4EFF-92FF-1409DA6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7164-EFE7-4497-9494-7421C3A5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63EF-C6FA-4727-B916-A4B9139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42D6B-C6CE-45B7-B02B-D065E1322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cdonalds.ca/en/aboutus/history.asp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sponsibility of employers –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EAT response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6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logan v Porturlin Shellfish L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urie Panuta v Watters Garden Wor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and victim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NascLogo (1).jpg"/>
          <p:cNvPicPr/>
          <p:nvPr/>
        </p:nvPicPr>
        <p:blipFill>
          <a:blip r:embed="rId1"/>
          <a:stretch/>
        </p:blipFill>
        <p:spPr>
          <a:xfrm>
            <a:off x="7184880" y="5357880"/>
            <a:ext cx="1959120" cy="150012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asc Employer Training - [Module 1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764640"/>
            <a:ext cx="82263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Calibri"/>
              </a:rPr>
              <a:t>You can contribute to the removal of barriers to full social and economic participation for all members of society, thereby helping to create a better Ireland.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cruitment 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646360" y="2079720"/>
            <a:ext cx="3848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571680"/>
            <a:ext cx="8226360" cy="55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E" sz="3600" spc="-1" strike="noStrike">
                <a:solidFill>
                  <a:srgbClr val="000000"/>
                </a:solidFill>
                <a:latin typeface="Calibri"/>
              </a:rPr>
              <a:t>We are an equal opportunities employ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000" y="105228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What are we doing to attract the bes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How are we reaching the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Does our advertising reflect our policy on diversit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50% non verb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omo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a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428616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nvestigate complaints;  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on’t hold a complaint against the complainant;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mplement your equality policy &amp; provide support.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4857840" y="1357200"/>
            <a:ext cx="40370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404640"/>
            <a:ext cx="83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c Donald’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The core values we live by.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dedicated to providing customers unparalleled levels of Quality, Service, Cleanliness and Value. It is what our founder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Ray Kro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augh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committed to our people beca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know that a diverse team of well-trained individuals, working together, is the key to our continued succes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pproach all aspects of our business with honesty and integ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always give back to the communities in which we do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give back to the system that provides our suc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elebrate our achievements, yet we always strive to achieve new he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369396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071720" y="2928960"/>
            <a:ext cx="60721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Diverse Culture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ne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the law requir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d what you can do to harness the energy of a diverse work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ranceImage1"/>
          <p:cNvPicPr/>
          <p:nvPr/>
        </p:nvPicPr>
        <p:blipFill>
          <a:blip r:embed="rId1"/>
          <a:stretch/>
        </p:blipFill>
        <p:spPr>
          <a:xfrm>
            <a:off x="1587600" y="1320840"/>
            <a:ext cx="59688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-BRAD1sml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la riots 2"/>
          <p:cNvPicPr/>
          <p:nvPr/>
        </p:nvPicPr>
        <p:blipFill>
          <a:blip r:embed="rId1"/>
          <a:stretch/>
        </p:blipFill>
        <p:spPr>
          <a:xfrm>
            <a:off x="1835280" y="1484280"/>
            <a:ext cx="5581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dney king"/>
          <p:cNvPicPr/>
          <p:nvPr/>
        </p:nvPicPr>
        <p:blipFill>
          <a:blip r:embed="rId1"/>
          <a:stretch/>
        </p:blipFill>
        <p:spPr>
          <a:xfrm>
            <a:off x="900000" y="765000"/>
            <a:ext cx="73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The Employment Equality Act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1998 – 200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000" y="476280"/>
            <a:ext cx="83516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arital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amily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Sexual orien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a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elig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is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embership of the travelling commun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the burden of proof shifts to the employer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900000" y="1569960"/>
            <a:ext cx="72072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 </cp:lastModifiedBy>
  <dcterms:modified xsi:type="dcterms:W3CDTF">2010-02-25T11:03:50Z</dcterms:modified>
  <cp:revision>18</cp:revision>
  <dc:subject/>
  <dc:title>Slide 1</dc:title>
</cp:coreProperties>
</file>